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281F-3D5D-4040-BE7C-F6D0726B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5A4-AFDA-490B-82B1-DAE0B2A1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39A-6A95-41E9-AD86-D403E32B9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AE9-D25B-4E35-A01F-CD740834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AD1-46BA-4F63-B8C6-D06630D3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3C08-534F-4922-833D-532725BF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2F8C-6A56-4AFF-B74A-8F3A9966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5146-243F-4C08-9379-F7E6F0C4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440-DDCD-4237-BCA2-01584358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EAC-1B0D-4329-820A-9E52B07A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60F-14C7-476F-80D6-35F62B0B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774-6078-4362-BCAB-79040988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A870-A4B6-4848-8471-B1AEA58C3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19280" y="148428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186264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же в расчет метрики могут быть включены показатели загрузки и надежности сети. В отличие от протокола RIP метрика в EIGRP не является фактором, ограничивающим размер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3046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645200"/>
            <a:ext cx="77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и получении от соседей векторов расстояний, маршрутизатор для каждой сети назначения не только выбирает соседа, через которого лежит кратчайший путь в эту сеть, но также запоминает и вероятных заместителей (feasible successo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2963880"/>
            <a:ext cx="799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640" y="111636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ероятным заместителем становится маршрутизатор, объявивший метрику маршрута от себя до данной сети меньшую, чем полная метрика установленного маршрута. Рассмотрим пример на рис. 6.1 (для простоты метрики всех связей, кроме (4)-(5), считаем равными единице; метрика связи (4)-(5) равна 0,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71640" y="1773360"/>
            <a:ext cx="7740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826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мер EIGRP-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Пример EIGRP-системы"/>
          <p:cNvPicPr/>
          <p:nvPr/>
        </p:nvPicPr>
        <p:blipFill>
          <a:blip r:embed="rId1"/>
          <a:stretch/>
        </p:blipFill>
        <p:spPr>
          <a:xfrm>
            <a:off x="1547640" y="2060640"/>
            <a:ext cx="6481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55640" y="981000"/>
            <a:ext cx="78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7640" y="806400"/>
            <a:ext cx="7956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ружками обозначены маршрутизаторы, прямоугольником – сеть назначения А. Маршрутизатор (3) получает от (5) элемент вектора расстояний (А=1), а от (4)  – (А=1,5). В таблице маршрутизатора (3) узел (5) становится следующим маршрутизатором на пути в сеть А, а узел (4) – вероятным заместителем, так как заявленное им расстояние до А (1,5) меньше полной метрики установленного маршрута (3)-(5)-А, которая рав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0" y="1557360"/>
            <a:ext cx="770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680840"/>
            <a:ext cx="7956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братим внимание на маршрутизаторы (1) и (2). Они присылают узлу (3) элемент (А=3) и, следовательно, не являются вероятными заместителями маршрута из (3) в А, что, безусловно, разум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19280" y="3193920"/>
            <a:ext cx="777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360" y="2103840"/>
            <a:ext cx="80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связь между узлами (3) и (5) обрывается, то (3) ищет в своей EIGRP-таблице вероятного заместителя ((4)) и немедленно устанавливает маршрут в сеть А через нег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34920" y="202392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460160"/>
            <a:ext cx="82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им образом время, в течение которого маршрут в сеть А отсутствовал, существенно сокращается по сравнению с протоколом RIP, где требуется ждать, когда соседи пришлют очередные векторы расстоян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47640" y="620640"/>
            <a:ext cx="76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1640" y="907920"/>
            <a:ext cx="842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Если же ни одного вероятного заместителя не найдено (допустим, связь (3)-(4) тоже обрывается), то маршрутизатор переходит в активное состояние и начинает опрос всех своих соседей на предмет наличия маршрута в сеть А, сообщая при этом что его собственное расстояние до А равно бесконечности. Здесь вступает в работу алгоритм DUAL (Diffusing Update Algorithm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19280" y="148428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280" y="2118240"/>
            <a:ext cx="77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ледуя этому алгоритму, сосед отвечает на запрос только тогда, когда у него есть либо готовый маршрут в А, либо вероятный заместитель – в любом из этих случаев сосед присылает в узел (3) свое расстояние до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Тема 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Tahoma"/>
              </a:rPr>
              <a:t>Протокол EIG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0920" y="1160280"/>
            <a:ext cx="78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Иначе сосед сам переходит в активное состояние и процесс повторяется (разумеется с той разницей, что к маршрутизатору (3) запрос не посылается; кроме того, маршрутизатор, находящийся в активном состоянии, сам может отвечать на запросы, посылая в ответ свое текущее значение расстояния до 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58560" y="1520640"/>
            <a:ext cx="821052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Таким образом область "активизированных" маршрутизаторов расширяется до тех пор, пока не будет обнаружен маршрут в сеть А или доказано его отсутствие, после чего волна сходится в обратном направлении к инициировавшему процесс узлу, при этом все маршрутизаторы вносят в свои таблицы надлежащие измен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195264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В протоколе EIGRP также реализованы процедуры Split Horizon и Poison Rev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彥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7se (см. п. 4.2.1), которые выполняются не всегда, а в зависимости от состояния маршрутизатора и его сосе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Из-за того, что EIGRP-маршрутизатор не просто принимает от соседей векторы расстояний, а строит на их основе некоторое представление от топологии сети ("вероятные заместители"), контролирует состояние связи с соседями и использует алгоритм DUAL, что всё вместе напоминает протоколы состояния связей, Cisco классифицирует EIGRP как "гибридный" протоко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3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829160"/>
            <a:ext cx="80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EIGRP, его отличительные черты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Что такое алгоритм D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 какому типу протоколов маршрутизации относиться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EIGRP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Отличие протокола IGRP от R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Pepelnjak I. "EIGRP Network Design Solutions". – Cisco Press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7640" y="1557000"/>
            <a:ext cx="8137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(Enhanced Interior Gateway Routing Protocol) – дистанционно векторный протокол маршрутизации, разработанный фирмой Cisco на основе протокола IGRP той же фирмы. Протокол IGRP был создан как альтернатива протоколу RIP (до того, как был разработан OSPF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9BA9-3354-4562-8B00-E9C64E07EF2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06216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80" y="904320"/>
            <a:ext cx="8029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осле появления OSPF Cisco представила EIGRP – переработанный и улучшенный вариант IGRP, свободный от основного недостатка дистанционно-векторных протоколов – особых ситуаций с зацикливанием маршрутов – благодаря специальному алгоритму распространения информации об изменениях в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4360" y="3024360"/>
            <a:ext cx="799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000" y="806040"/>
            <a:ext cx="7848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Несмотря на то, что в общем случае протоколы состояния связей (OSPF) отрабатывают изменения в топологии сети быстрее, чем EIGRP, а также OSPF имеет ряд дополнительных возможностей, EIGRP более прост в реализации и менее требователен к вычислительным ресурсам маршрутиз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47640" y="3090960"/>
            <a:ext cx="7993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971280"/>
            <a:ext cx="81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-маршрутизатор обнаруживает своих соседей путем периодической рассылки сообщений "Hello". 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76360" y="1557360"/>
            <a:ext cx="781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08000" y="1521000"/>
            <a:ext cx="7597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Эти же сообщения используются для мониторинга состояния связи с соседом (рассылаются каждые 5 секунд в сетях с большой пропускной способностью – например, Ethernet – и каждые 60 секунд в "медленных" сетях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3208320"/>
            <a:ext cx="795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216180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Такой мониторинг позволяет рассылать в сети векторы расстояний не периодически, а только при изменении топологии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19280" y="3168720"/>
            <a:ext cx="795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6360" y="21394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EIGRP использует комплексное значение метрики, вычисляемое на основании показателей пропускной способности и задержки при передаче данных в се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12Z</dcterms:modified>
  <cp:revision>149</cp:revision>
  <dc:subject/>
  <dc:title>Lecture Template </dc:title>
</cp:coreProperties>
</file>